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ED14-D43C-4965-B298-8E28D9CB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771-6A1E-496B-B350-3EC9DF69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15F-E458-4146-A193-2312CEEA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017-7B86-45C7-9C11-AC902D8F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B1980-00B3-40F9-9847-7FBC64E7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582887-4D2A-4BCB-BB74-03476B66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A848F-B3E5-4267-87AC-F9844231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6F3E2-9898-4EBC-AFE9-EF16E87E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71805-0F5B-4473-B50A-88661744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C7702-3F13-4C1D-ABA8-E1AAEF8D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BB1DD-F149-4102-A5BD-FB2A735C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D3B-B83E-4815-A826-F61B253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4DAE2-03B9-4117-96C7-1ABC41AD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BD6B7-7B8A-4362-84AB-B40E1C7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25C3-B639-4FBF-B560-7D2048C0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3FF3B-C464-4492-A317-7E164DC9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A7C84-613E-4CD8-944B-9462BAA6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9FE-D7CE-4AFA-8363-CE05A851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41C-0B1E-4F13-A93E-E61E6EC8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077C-2892-4099-A697-AF5FAE2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59A-FEB4-48CE-882C-B3FBD685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781-708C-44DC-B346-52AE31F4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6ED-3819-4A8A-AC38-A23F6E7D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85F-C538-4B60-B431-2EE87C8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4A4B-90F5-4227-8C97-42D59777A4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6D54-61B4-444E-946D-BB9CB5BF02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iu.edu/~gearup/units/pact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neiu.edu/~gearup/units/pact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sked.gov.sk.ca/branches/curr/evergreen/index.s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UNITS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A plan to teach a series of related lessons on a particular theme (Lang, Evans, 2006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Unit Plann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LES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road map created by the teacher to guide the teaching/learning activities during a specific period of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Lesson Pla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at educational purposes should the school seek to attai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hat educational experiences can be provided that are likely to attain these purpos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ow can these educational experiences be effectively organiz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ow can we determine whether these purposes are being attain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alph W. Tyler (194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at should we teach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can we help our students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should this learning be orga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do we know when the learning has taken pla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can we help our students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should this learning be organiz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How do people learn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What Do Teachers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 safe, nurturing environment for stud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eate an environment that maximizes the probability that students will lea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rial"/>
              </a:rPr>
              <a:t>Make Decision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Make Decisions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During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0" spc="-1" strike="noStrike">
                <a:solidFill>
                  <a:srgbClr val="e3e3ff"/>
                </a:solidFill>
                <a:latin typeface="Arial"/>
              </a:rPr>
              <a:t>BEFORE</a:t>
            </a:r>
            <a:endParaRPr b="0" lang="en-US" sz="8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Curriculu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Unit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>
                <a:solidFill>
                  <a:srgbClr val="ffffff"/>
                </a:solidFill>
                <a:latin typeface="Arial"/>
              </a:rPr>
              <a:t>Lesson Pla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e3e3ff"/>
                </a:solidFill>
                <a:latin typeface="Arial"/>
              </a:rPr>
              <a:t>CURRICULUM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6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he Saskatchewan Evergreen Curriculu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21:02:13Z</dcterms:created>
  <dc:creator>Reviewer</dc:creator>
  <dc:description/>
  <dc:language>en-US</dc:language>
  <cp:lastModifiedBy>Reviewer</cp:lastModifiedBy>
  <dcterms:modified xsi:type="dcterms:W3CDTF">2009-09-29T22:07:37Z</dcterms:modified>
  <cp:revision>6</cp:revision>
  <dc:subject/>
  <dc:title>What Do Teachers Do?</dc:title>
</cp:coreProperties>
</file>